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68EB-DC57-4E1C-9F33-0BE5CAF866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719-6D38-44C2-8A88-5D4EF7D633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AFFC-F4B7-4EDC-BFE1-D3BF6AC3D5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0D32-E4A2-4540-8620-282100D221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69C-DAE1-4A5E-8181-2ECBB8336F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59B-C775-4B08-8533-FDA1142B64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60E6-38F2-4BE4-9298-35D8C51A8A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7DB7-3E6A-4EA1-8F2E-189623ED34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93D-8EAC-4F47-BFCE-AFFD1493A7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8AD4-10E1-4234-A5B8-29A1F80C52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448-8158-487F-89EE-2411452B8F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5B30-63CA-43D7-AF62-B72394ECFD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9F9-5798-4CDA-A487-85831D224F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4D2-D73D-4F4B-A1A8-314FFB6D7E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07C-197B-48EA-AC19-0924565D84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2FA3-2802-4DD7-9662-02DDBB1E92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D67-A237-4FE9-BEDD-677E14D160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742-AB8F-4B94-ACBD-F69DFD4F5E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B9B6-F65E-4050-B23A-242488D3BE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91B-5226-418D-9C9E-84F6C17E2A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BD6-0F11-4B94-B9D6-8C9CDFE001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1CD-497C-40D9-AEA4-4E95904392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0A5-7353-4059-BA90-B903A8C5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A81-C216-4193-82FE-0F74287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0F6-A48F-4E13-8B53-E579A9ED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890-C6DB-4492-8168-0105982B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779-664C-42FC-969B-9DC43A1C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CE7-979C-4890-9500-DF7A356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19C-D8C3-47B6-A2E1-6CDF59C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190-E974-492E-9A9F-BB0096C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E66-654A-4B8B-BBF9-9F5AA6C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F68-30B7-45FE-A69D-0A317E9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809-00BB-49D3-9216-B5C54D8C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130-02CE-41BD-AE19-C14E9C3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E1C3-46B6-4778-8A21-11EC8FCD2B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W9TIzJDxZc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5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6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37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38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39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60360" y="1206360"/>
            <a:ext cx="802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Verdana"/>
              </a:rPr>
              <a:t>Química Orgân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23880" y="5181480"/>
            <a:ext cx="7543800" cy="685800"/>
          </a:xfrm>
          <a:prstGeom prst="rect">
            <a:avLst/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24000" y="5064120"/>
            <a:ext cx="6048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SOME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 rot="5400000">
            <a:off x="8420040" y="6134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-4513320" y="-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19280" y="812880"/>
          <a:ext cx="5689440" cy="45720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utomeria ou Isomeria Dinâ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49" descr="a001"/>
          <p:cNvPicPr/>
          <p:nvPr/>
        </p:nvPicPr>
        <p:blipFill>
          <a:blip r:embed="rId3"/>
          <a:stretch/>
        </p:blipFill>
        <p:spPr>
          <a:xfrm>
            <a:off x="1116000" y="2851200"/>
            <a:ext cx="7345440" cy="3673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0"/>
          <p:cNvSpPr/>
          <p:nvPr/>
        </p:nvSpPr>
        <p:spPr>
          <a:xfrm>
            <a:off x="324000" y="12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explicação pode ser dada através de conceitos simples como densidade eletrônica e carga parcial, como na animação abaixo. O exemplo utilizado será de um aldeído, mas também é possível explicar a tautomeria ceto-enólic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11280" y="1052640"/>
            <a:ext cx="7634160" cy="1191240"/>
          </a:xfrm>
          <a:prstGeom prst="rect">
            <a:avLst/>
          </a:prstGeom>
          <a:noFill/>
          <a:ln cap="rnd" w="63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  <a:ea typeface="Arial"/>
              </a:rPr>
              <a:t>A isomeria geométrica ou Cis – Trans trata de casos onde há diferenças apenas na posição de alguns átomos em uma estrutura tridimens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50920" y="2852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ções para ocor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Compostos com ligação dupla e cada carbono do laço duplo deve possuir os dois radicai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- Compostos cíclicos que possuam dois carbonos com dois radicais diferentas em cada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 Compostos alênicos (derivados do propadi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50920" y="1052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 composto 1,2-Dicloro-Eteno pode ser representado de duas manei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19"/>
          <p:cNvGraphicFramePr/>
          <p:nvPr/>
        </p:nvGraphicFramePr>
        <p:xfrm>
          <a:off x="2484360" y="1413000"/>
          <a:ext cx="3606840" cy="18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413000"/>
                    <a:ext cx="360684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0"/>
          <p:cNvSpPr/>
          <p:nvPr/>
        </p:nvSpPr>
        <p:spPr>
          <a:xfrm>
            <a:off x="1476360" y="3284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s diferentes = Características difere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1"/>
          <p:cNvGraphicFramePr/>
          <p:nvPr/>
        </p:nvGraphicFramePr>
        <p:xfrm>
          <a:off x="2484360" y="3732120"/>
          <a:ext cx="3672000" cy="221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3732120"/>
                    <a:ext cx="367200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2"/>
          <p:cNvSpPr/>
          <p:nvPr/>
        </p:nvSpPr>
        <p:spPr>
          <a:xfrm>
            <a:off x="1258920" y="6127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  <a:ea typeface="Arial"/>
              </a:rPr>
              <a:t>Como diferenciar as duas estrutur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6372360" y="2133720"/>
            <a:ext cx="21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≠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≠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50920" y="1052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ntes de seus nomes utilizam-se prefixos para indicar a posição de seus átomos ou radica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50920" y="1790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i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– Quando os radicais mais simples estiverem do mes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50920" y="20955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n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– Quando os radicais mais simples estiverem em lados op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16"/>
          <p:cNvGraphicFramePr/>
          <p:nvPr/>
        </p:nvGraphicFramePr>
        <p:xfrm>
          <a:off x="3059280" y="2577960"/>
          <a:ext cx="23763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77960"/>
                    <a:ext cx="23763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7"/>
          <p:cNvGraphicFramePr/>
          <p:nvPr/>
        </p:nvGraphicFramePr>
        <p:xfrm>
          <a:off x="3071880" y="3424320"/>
          <a:ext cx="2360520" cy="24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3424320"/>
                    <a:ext cx="236052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8"/>
          <p:cNvSpPr/>
          <p:nvPr/>
        </p:nvSpPr>
        <p:spPr>
          <a:xfrm>
            <a:off x="324000" y="4005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orientação é sempre dada a partir do maior número atômico para átomos diferentes e de tamanho, quando os números atômicos forem iguais, para radicais.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O prefix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cis-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 indica que as partes de maior prioridade estão em uma mesma parte de um plano imaginário que corta a molécula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O prefixo </a:t>
            </a:r>
            <a:r>
              <a:rPr b="1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trans-</a:t>
            </a:r>
            <a:r>
              <a:rPr b="0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 indica que as partes de maior prioridade estão em lados opostos da molécula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43"/>
          <p:cNvGrpSpPr/>
          <p:nvPr/>
        </p:nvGrpSpPr>
        <p:grpSpPr>
          <a:xfrm>
            <a:off x="395280" y="1125360"/>
            <a:ext cx="4824000" cy="2519280"/>
            <a:chOff x="395280" y="1125360"/>
            <a:chExt cx="4824000" cy="2519280"/>
          </a:xfrm>
        </p:grpSpPr>
        <p:graphicFrame>
          <p:nvGraphicFramePr>
            <p:cNvPr id="243" name="Object 24"/>
            <p:cNvGraphicFramePr/>
            <p:nvPr/>
          </p:nvGraphicFramePr>
          <p:xfrm>
            <a:off x="395280" y="1125360"/>
            <a:ext cx="2499480" cy="101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4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280" y="1125360"/>
                      <a:ext cx="2499480" cy="10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25"/>
            <p:cNvGraphicFramePr/>
            <p:nvPr/>
          </p:nvGraphicFramePr>
          <p:xfrm>
            <a:off x="395280" y="2125080"/>
            <a:ext cx="2489400" cy="28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" y="2125080"/>
                      <a:ext cx="2489400" cy="2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26"/>
            <p:cNvGraphicFramePr/>
            <p:nvPr/>
          </p:nvGraphicFramePr>
          <p:xfrm>
            <a:off x="408960" y="2418480"/>
            <a:ext cx="2490840" cy="102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8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960" y="2418480"/>
                      <a:ext cx="2490840" cy="102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27"/>
            <p:cNvGraphicFramePr/>
            <p:nvPr/>
          </p:nvGraphicFramePr>
          <p:xfrm>
            <a:off x="408960" y="3364560"/>
            <a:ext cx="2487600" cy="280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0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8960" y="3364560"/>
                      <a:ext cx="2487600" cy="2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32"/>
            <p:cNvGraphicFramePr/>
            <p:nvPr/>
          </p:nvGraphicFramePr>
          <p:xfrm>
            <a:off x="2881080" y="1125360"/>
            <a:ext cx="2338200" cy="250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2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81080" y="1125360"/>
                      <a:ext cx="2338200" cy="250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Group 44"/>
          <p:cNvGrpSpPr/>
          <p:nvPr/>
        </p:nvGrpSpPr>
        <p:grpSpPr>
          <a:xfrm>
            <a:off x="395280" y="3940200"/>
            <a:ext cx="4824000" cy="2368080"/>
            <a:chOff x="395280" y="3940200"/>
            <a:chExt cx="4824000" cy="2368080"/>
          </a:xfrm>
        </p:grpSpPr>
        <p:graphicFrame>
          <p:nvGraphicFramePr>
            <p:cNvPr id="254" name="Object 28"/>
            <p:cNvGraphicFramePr/>
            <p:nvPr/>
          </p:nvGraphicFramePr>
          <p:xfrm>
            <a:off x="398520" y="3951000"/>
            <a:ext cx="2532240" cy="96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5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8520" y="3951000"/>
                      <a:ext cx="2532240" cy="9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Object 29"/>
            <p:cNvGraphicFramePr/>
            <p:nvPr/>
          </p:nvGraphicFramePr>
          <p:xfrm>
            <a:off x="398520" y="4852800"/>
            <a:ext cx="2532240" cy="226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7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8520" y="4852800"/>
                      <a:ext cx="2532240" cy="2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30"/>
            <p:cNvGraphicFramePr/>
            <p:nvPr/>
          </p:nvGraphicFramePr>
          <p:xfrm>
            <a:off x="402120" y="5075640"/>
            <a:ext cx="2537280" cy="97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9" name="Object 3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2120" y="5075640"/>
                      <a:ext cx="2537280" cy="9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Object 31"/>
            <p:cNvGraphicFramePr/>
            <p:nvPr/>
          </p:nvGraphicFramePr>
          <p:xfrm>
            <a:off x="395280" y="6063120"/>
            <a:ext cx="2544480" cy="245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1" name="Object 3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5280" y="6063120"/>
                      <a:ext cx="254448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33"/>
            <p:cNvGraphicFramePr/>
            <p:nvPr/>
          </p:nvGraphicFramePr>
          <p:xfrm>
            <a:off x="2926080" y="3940200"/>
            <a:ext cx="2293200" cy="2368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63" name="Object 3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26080" y="3940200"/>
                      <a:ext cx="2293200" cy="23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34"/>
          <p:cNvGraphicFramePr/>
          <p:nvPr/>
        </p:nvGraphicFramePr>
        <p:xfrm>
          <a:off x="5727600" y="3135240"/>
          <a:ext cx="2805120" cy="957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5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7600" y="3135240"/>
                    <a:ext cx="28051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6"/>
          <p:cNvGraphicFramePr/>
          <p:nvPr/>
        </p:nvGraphicFramePr>
        <p:xfrm>
          <a:off x="5722920" y="4282920"/>
          <a:ext cx="2809800" cy="978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7" name="Object 3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22920" y="4282920"/>
                    <a:ext cx="28098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8"/>
          <p:cNvSpPr/>
          <p:nvPr/>
        </p:nvSpPr>
        <p:spPr>
          <a:xfrm>
            <a:off x="5605560" y="191628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creva o nome e diferencie os isômeros geométrico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39"/>
          <p:cNvGraphicFramePr/>
          <p:nvPr/>
        </p:nvGraphicFramePr>
        <p:xfrm>
          <a:off x="5727600" y="4083120"/>
          <a:ext cx="2805120" cy="209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0" name="Object 3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27600" y="4083120"/>
                    <a:ext cx="28051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40"/>
          <p:cNvGraphicFramePr/>
          <p:nvPr/>
        </p:nvGraphicFramePr>
        <p:xfrm>
          <a:off x="5722920" y="5264280"/>
          <a:ext cx="2809800" cy="210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2" name="Object 4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22920" y="5264280"/>
                    <a:ext cx="280980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482920" y="62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í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250920" y="1052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ossuem isomeria geométrica sem a necessidade de uma ligação dup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19"/>
          <p:cNvGraphicFramePr/>
          <p:nvPr/>
        </p:nvGraphicFramePr>
        <p:xfrm>
          <a:off x="179280" y="1676520"/>
          <a:ext cx="424836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676520"/>
                    <a:ext cx="424836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0"/>
          <p:cNvSpPr/>
          <p:nvPr/>
        </p:nvSpPr>
        <p:spPr>
          <a:xfrm>
            <a:off x="4643280" y="1557360"/>
            <a:ext cx="417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regra para determinar quem é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i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 quem é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n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é a mesma dos compostos acíclicos: traçar uma linha imaginária entre os carbonos onde há isomeria geométrica e observar, pelas prioridades, quem é cis e tr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21"/>
          <p:cNvGraphicFramePr/>
          <p:nvPr/>
        </p:nvGraphicFramePr>
        <p:xfrm>
          <a:off x="755640" y="3997440"/>
          <a:ext cx="287964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997440"/>
                    <a:ext cx="287964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22"/>
          <p:cNvGraphicFramePr/>
          <p:nvPr/>
        </p:nvGraphicFramePr>
        <p:xfrm>
          <a:off x="755640" y="5535720"/>
          <a:ext cx="2879640" cy="20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5535720"/>
                    <a:ext cx="28796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23"/>
          <p:cNvGraphicFramePr/>
          <p:nvPr/>
        </p:nvGraphicFramePr>
        <p:xfrm>
          <a:off x="4716360" y="4005360"/>
          <a:ext cx="2906640" cy="15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6360" y="4005360"/>
                    <a:ext cx="29066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4"/>
          <p:cNvGraphicFramePr/>
          <p:nvPr/>
        </p:nvGraphicFramePr>
        <p:xfrm>
          <a:off x="4716360" y="5510160"/>
          <a:ext cx="2906640" cy="20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5510160"/>
                    <a:ext cx="29066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482920" y="62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í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20"/>
          <p:cNvGraphicFramePr/>
          <p:nvPr/>
        </p:nvGraphicFramePr>
        <p:xfrm>
          <a:off x="684360" y="2913120"/>
          <a:ext cx="309852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913120"/>
                    <a:ext cx="3098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1"/>
          <p:cNvGraphicFramePr/>
          <p:nvPr/>
        </p:nvGraphicFramePr>
        <p:xfrm>
          <a:off x="684360" y="5000760"/>
          <a:ext cx="309708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00760"/>
                    <a:ext cx="3097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2"/>
          <p:cNvGraphicFramePr/>
          <p:nvPr/>
        </p:nvGraphicFramePr>
        <p:xfrm>
          <a:off x="4987800" y="2921040"/>
          <a:ext cx="2970360" cy="20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7800" y="2921040"/>
                    <a:ext cx="29703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23"/>
          <p:cNvGraphicFramePr/>
          <p:nvPr/>
        </p:nvGraphicFramePr>
        <p:xfrm>
          <a:off x="4983120" y="5000760"/>
          <a:ext cx="297504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83120" y="5000760"/>
                    <a:ext cx="2975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24"/>
          <p:cNvSpPr/>
          <p:nvPr/>
        </p:nvSpPr>
        <p:spPr>
          <a:xfrm>
            <a:off x="801720" y="151920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creva o nome e diferencie os isômeros geométrico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468360" y="69228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Todos os isômeros possuem propriedades físicas diferentes, tais como PF, PE e densidade, mas os isômeros ópticos não possuem esta diferença, ou seja, as propriedades físicas dos isômeros ópticos são as mesmas. Então o que faz eles serem diferentes?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É possível diferenciá-los?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Sim, é possível diferenciá-los, mas apenas quando eles estão frente à luz polar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18"/>
          <p:cNvGraphicFramePr/>
          <p:nvPr/>
        </p:nvGraphicFramePr>
        <p:xfrm>
          <a:off x="1619280" y="4202280"/>
          <a:ext cx="5329080" cy="12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202280"/>
                    <a:ext cx="53290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19"/>
          <p:cNvSpPr/>
          <p:nvPr/>
        </p:nvSpPr>
        <p:spPr>
          <a:xfrm>
            <a:off x="539640" y="5564160"/>
            <a:ext cx="82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Os isômeros ópticos são compostos capazes de desviar a luz polarizad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68360" y="2349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Enantiômero Dextrógiro (D, +)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 -  provoca o giro da luz polarizada para a direit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3"/>
          <p:cNvGraphicFramePr/>
          <p:nvPr/>
        </p:nvGraphicFramePr>
        <p:xfrm>
          <a:off x="1619280" y="836640"/>
          <a:ext cx="532908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836640"/>
                    <a:ext cx="53290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15"/>
          <p:cNvSpPr/>
          <p:nvPr/>
        </p:nvSpPr>
        <p:spPr>
          <a:xfrm>
            <a:off x="468360" y="3573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Enantiômero Levógiro (L, -)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 -  provoca o giro da luz polarizada para a esquerd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68360" y="48592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Mistura Racêmica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- ópticamente inativa (mistura de 50% de dextrógiro com 50% de levóg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468360" y="692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Condição para que um composto tenha atividade óp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995640" y="210816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O carbono quiral é marcad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om um asterísco (*),est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arbono possui todos 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ligantes difer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468360" y="12924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arbono assimétrico ou quiral ou estereoc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7" descr="1-cloro-1fluor-etano1"/>
          <p:cNvPicPr/>
          <p:nvPr/>
        </p:nvPicPr>
        <p:blipFill>
          <a:blip r:embed="rId3"/>
          <a:stretch/>
        </p:blipFill>
        <p:spPr>
          <a:xfrm>
            <a:off x="1308240" y="1820880"/>
            <a:ext cx="2400120" cy="23144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8"/>
          <p:cNvSpPr/>
          <p:nvPr/>
        </p:nvSpPr>
        <p:spPr>
          <a:xfrm>
            <a:off x="2509920" y="2325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20" descr="espelho1"/>
          <p:cNvPicPr/>
          <p:nvPr/>
        </p:nvPicPr>
        <p:blipFill>
          <a:blip r:embed="rId4"/>
          <a:stretch/>
        </p:blipFill>
        <p:spPr>
          <a:xfrm>
            <a:off x="1258920" y="4292640"/>
            <a:ext cx="2571840" cy="2257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1"/>
          <p:cNvSpPr/>
          <p:nvPr/>
        </p:nvSpPr>
        <p:spPr>
          <a:xfrm>
            <a:off x="3995640" y="4508640"/>
            <a:ext cx="47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Nos compostos enantioméricos, um é a imagem especular do outro, ou seja, um é a imagem refletida do outro. No entanto, eles não são superponíveis.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"/>
          <p:cNvSpPr/>
          <p:nvPr/>
        </p:nvSpPr>
        <p:spPr>
          <a:xfrm>
            <a:off x="179280" y="1179360"/>
            <a:ext cx="856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 o fenômeno através do qual dois ou mais compostos apresentam mesma fórmula molecular e propriedades diferentes em virtude da disposição diferente dos átomos na moléc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24000" y="9651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Monotype Corsiva"/>
              </a:rPr>
              <a:t>Determinação do número de isômeros ópticos (lei de van't Hoff)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468360" y="176832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1C*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Um isômero dextrógiro, um levógiro e um racêmico (formado por quantidades equimolares do dextrógiro e levógir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2C* diferente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Dois isômeros dextrógiros, dois isômeros levógiros, formando dois pares de antípodas ópticos e dois racê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</a:rPr>
              <a:t>Compostos com 2C* iguai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Um isômero levógiro, um dextrógiro, um racêmico e um meso ou mesógiro (inativo por compensação intern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nC* diferente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isômeros opticamente ativos, sendo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dextrógiros,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levógiros e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racê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324000" y="9651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bre a molécula do 3-metil-2-pentanol, respo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81080" y="36925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 Quantos enantiomorfos possui a moléc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79280" y="515772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Quantos enantiomorfos levógiros possui a moléc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17" descr="2esteriocentros"/>
          <p:cNvPicPr/>
          <p:nvPr/>
        </p:nvPicPr>
        <p:blipFill>
          <a:blip r:embed="rId3"/>
          <a:stretch/>
        </p:blipFill>
        <p:spPr>
          <a:xfrm>
            <a:off x="2124000" y="1670040"/>
            <a:ext cx="3240000" cy="16146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8"/>
          <p:cNvSpPr/>
          <p:nvPr/>
        </p:nvSpPr>
        <p:spPr>
          <a:xfrm>
            <a:off x="5650200" y="22039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 estereocen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484920" y="433908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OA 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1740960" y="43516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= 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3129480" y="432972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 isômeros ópticos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2"/>
          <p:cNvSpPr/>
          <p:nvPr/>
        </p:nvSpPr>
        <p:spPr>
          <a:xfrm>
            <a:off x="487440" y="56347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OA(-) 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3"/>
          <p:cNvSpPr/>
          <p:nvPr/>
        </p:nvSpPr>
        <p:spPr>
          <a:xfrm>
            <a:off x="2199600" y="56347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2-1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=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4"/>
          <p:cNvSpPr/>
          <p:nvPr/>
        </p:nvSpPr>
        <p:spPr>
          <a:xfrm>
            <a:off x="3922920" y="56347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 isômeros levóg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50920" y="836640"/>
            <a:ext cx="85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 a fórmula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temos duas substâ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 – 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–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ção álcool, líquido incolor, P.E.= 78,5°C, apresenta moderada reatividade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 – O – 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ção éter, gás incolor, liquefaz a -23°C, apresenta baixa reatividade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ipos de Isom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50920" y="836640"/>
            <a:ext cx="85690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omeria Plana – Os isômeros podem ser diferenciados pela fórmula estrutural pl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omeria Espacial ou Estereoisomeria – Os isômeros são diferenciados pelas suas estruturas espac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someria Geomét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someria Óp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95280" y="845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someria plana é dividida em 5 partes: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someria de função, de cadeia, de posição, metameria e tautomeria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8000" y="2133720"/>
          <a:ext cx="5904000" cy="4572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Função ou Fun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25"/>
          <p:cNvSpPr/>
          <p:nvPr/>
        </p:nvSpPr>
        <p:spPr>
          <a:xfrm>
            <a:off x="684360" y="2491920"/>
            <a:ext cx="784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a isomeria de função os compostos possuem diferenças apenas entre a função química. Veja alguns ex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3080" y="3429000"/>
          <a:ext cx="9061560" cy="2392200"/>
        </p:xfrm>
        <a:graphic>
          <a:graphicData uri="http://schemas.openxmlformats.org/drawingml/2006/table">
            <a:tbl>
              <a:tblPr/>
              <a:tblGrid>
                <a:gridCol w="1725840"/>
                <a:gridCol w="1755720"/>
                <a:gridCol w="216000"/>
                <a:gridCol w="2766240"/>
                <a:gridCol w="2597760"/>
              </a:tblGrid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deí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t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cido Carbox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cido Butanó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oato de 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76"/>
          <p:cNvSpPr/>
          <p:nvPr/>
        </p:nvSpPr>
        <p:spPr>
          <a:xfrm>
            <a:off x="324000" y="58759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utros exemplos comuns são isomeria funcional entre álcool e éter, álcool aromático e fen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7" descr="128"/>
          <p:cNvPicPr/>
          <p:nvPr/>
        </p:nvPicPr>
        <p:blipFill>
          <a:blip r:embed="rId3"/>
          <a:stretch/>
        </p:blipFill>
        <p:spPr>
          <a:xfrm>
            <a:off x="108000" y="3475080"/>
            <a:ext cx="126036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247"/>
          <p:cNvPicPr/>
          <p:nvPr/>
        </p:nvPicPr>
        <p:blipFill>
          <a:blip r:embed="rId4"/>
          <a:stretch/>
        </p:blipFill>
        <p:spPr>
          <a:xfrm>
            <a:off x="2211480" y="3551400"/>
            <a:ext cx="1030320" cy="60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145"/>
          <p:cNvPicPr/>
          <p:nvPr/>
        </p:nvPicPr>
        <p:blipFill>
          <a:blip r:embed="rId5"/>
          <a:stretch/>
        </p:blipFill>
        <p:spPr>
          <a:xfrm>
            <a:off x="4440240" y="3489480"/>
            <a:ext cx="168120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248"/>
          <p:cNvPicPr/>
          <p:nvPr/>
        </p:nvPicPr>
        <p:blipFill>
          <a:blip r:embed="rId6"/>
          <a:stretch/>
        </p:blipFill>
        <p:spPr>
          <a:xfrm>
            <a:off x="7386480" y="3475080"/>
            <a:ext cx="14716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4000" y="907920"/>
          <a:ext cx="5256360" cy="45720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Cadeia ou Núcl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60"/>
          <p:cNvSpPr/>
          <p:nvPr/>
        </p:nvSpPr>
        <p:spPr>
          <a:xfrm>
            <a:off x="649440" y="1573920"/>
            <a:ext cx="817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s compostos possuem a mesma função, mas possuem diferenças entre as suas cade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6120" y="2565360"/>
          <a:ext cx="8077320" cy="3110040"/>
        </p:xfrm>
        <a:graphic>
          <a:graphicData uri="http://schemas.openxmlformats.org/drawingml/2006/table">
            <a:tbl>
              <a:tblPr/>
              <a:tblGrid>
                <a:gridCol w="2486520"/>
                <a:gridCol w="1963800"/>
                <a:gridCol w="216000"/>
                <a:gridCol w="1797120"/>
                <a:gridCol w="1613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carbo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carbo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u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il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iclo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aberta,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ormal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turada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aberta,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ramific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turada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bert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normal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satur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ch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normal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atur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19"/>
          <p:cNvSpPr/>
          <p:nvPr/>
        </p:nvSpPr>
        <p:spPr>
          <a:xfrm>
            <a:off x="4481640" y="7222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2" descr="249"/>
          <p:cNvPicPr/>
          <p:nvPr/>
        </p:nvPicPr>
        <p:blipFill>
          <a:blip r:embed="rId3"/>
          <a:stretch/>
        </p:blipFill>
        <p:spPr>
          <a:xfrm>
            <a:off x="750960" y="2755800"/>
            <a:ext cx="1733400" cy="42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4" descr="250"/>
          <p:cNvPicPr/>
          <p:nvPr/>
        </p:nvPicPr>
        <p:blipFill>
          <a:blip r:embed="rId4"/>
          <a:stretch/>
        </p:blipFill>
        <p:spPr>
          <a:xfrm>
            <a:off x="3322800" y="2657520"/>
            <a:ext cx="12492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7" descr="251"/>
          <p:cNvPicPr/>
          <p:nvPr/>
        </p:nvPicPr>
        <p:blipFill>
          <a:blip r:embed="rId5"/>
          <a:stretch/>
        </p:blipFill>
        <p:spPr>
          <a:xfrm>
            <a:off x="5318280" y="2755800"/>
            <a:ext cx="1341360" cy="42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" descr="058"/>
          <p:cNvPicPr/>
          <p:nvPr/>
        </p:nvPicPr>
        <p:blipFill>
          <a:blip r:embed="rId6"/>
          <a:stretch/>
        </p:blipFill>
        <p:spPr>
          <a:xfrm>
            <a:off x="7259760" y="2565360"/>
            <a:ext cx="912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4481640" y="7222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27280" y="981000"/>
          <a:ext cx="3529080" cy="4572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Pos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60"/>
          <p:cNvSpPr/>
          <p:nvPr/>
        </p:nvSpPr>
        <p:spPr>
          <a:xfrm>
            <a:off x="250920" y="162756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s isômeros de posição possuem cadeias iguais e possuem a mesma função, mas possuem diferenças na posição do grupo funcional, ramificação ou insatu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" y="3043080"/>
          <a:ext cx="9055440" cy="2225880"/>
        </p:xfrm>
        <a:graphic>
          <a:graphicData uri="http://schemas.openxmlformats.org/drawingml/2006/table">
            <a:tbl>
              <a:tblPr/>
              <a:tblGrid>
                <a:gridCol w="1999080"/>
                <a:gridCol w="2521800"/>
                <a:gridCol w="216000"/>
                <a:gridCol w="2111040"/>
                <a:gridCol w="22075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l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c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Propan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Propan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But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But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62" descr="252"/>
          <p:cNvPicPr/>
          <p:nvPr/>
        </p:nvPicPr>
        <p:blipFill>
          <a:blip r:embed="rId3"/>
          <a:stretch/>
        </p:blipFill>
        <p:spPr>
          <a:xfrm>
            <a:off x="209520" y="3089160"/>
            <a:ext cx="1122480" cy="58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4" descr="253"/>
          <p:cNvPicPr/>
          <p:nvPr/>
        </p:nvPicPr>
        <p:blipFill>
          <a:blip r:embed="rId4"/>
          <a:stretch/>
        </p:blipFill>
        <p:spPr>
          <a:xfrm>
            <a:off x="2211480" y="3173400"/>
            <a:ext cx="1712880" cy="4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7" descr="238"/>
          <p:cNvPicPr/>
          <p:nvPr/>
        </p:nvPicPr>
        <p:blipFill>
          <a:blip r:embed="rId5"/>
          <a:stretch/>
        </p:blipFill>
        <p:spPr>
          <a:xfrm>
            <a:off x="4921200" y="3173400"/>
            <a:ext cx="1595520" cy="43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9" descr="254"/>
          <p:cNvPicPr/>
          <p:nvPr/>
        </p:nvPicPr>
        <p:blipFill>
          <a:blip r:embed="rId6"/>
          <a:stretch/>
        </p:blipFill>
        <p:spPr>
          <a:xfrm>
            <a:off x="7031160" y="3173400"/>
            <a:ext cx="14284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481640" y="49410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5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42920" y="957240"/>
          <a:ext cx="6912000" cy="45720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ameria ou Isomeria de Compens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56"/>
          <p:cNvSpPr/>
          <p:nvPr/>
        </p:nvSpPr>
        <p:spPr>
          <a:xfrm>
            <a:off x="539640" y="17215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metameria é um caso particular da isomeria de posição. Nela, os metâmeros pertencem à mesma função, possuem cadeias iguais e a única diferença é a posição de um hetero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7080" y="2924280"/>
          <a:ext cx="8918640" cy="2454120"/>
        </p:xfrm>
        <a:graphic>
          <a:graphicData uri="http://schemas.openxmlformats.org/drawingml/2006/table">
            <a:tbl>
              <a:tblPr/>
              <a:tblGrid>
                <a:gridCol w="2474280"/>
                <a:gridCol w="2412360"/>
                <a:gridCol w="216000"/>
                <a:gridCol w="1943280"/>
                <a:gridCol w="1872720"/>
              </a:tblGrid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óxi E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óxi 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anoato de 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oato de M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105"/>
          <p:cNvSpPr/>
          <p:nvPr/>
        </p:nvSpPr>
        <p:spPr>
          <a:xfrm>
            <a:off x="250920" y="55807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utros exemplos de metameria são entre as aminas ou entre as amidas comuns e substituí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8" descr="255"/>
          <p:cNvPicPr/>
          <p:nvPr/>
        </p:nvPicPr>
        <p:blipFill>
          <a:blip r:embed="rId3"/>
          <a:stretch/>
        </p:blipFill>
        <p:spPr>
          <a:xfrm>
            <a:off x="539640" y="3164040"/>
            <a:ext cx="1611360" cy="33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0" descr="256"/>
          <p:cNvPicPr/>
          <p:nvPr/>
        </p:nvPicPr>
        <p:blipFill>
          <a:blip r:embed="rId4"/>
          <a:stretch/>
        </p:blipFill>
        <p:spPr>
          <a:xfrm>
            <a:off x="2843280" y="3137040"/>
            <a:ext cx="1779480" cy="385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3" descr="257"/>
          <p:cNvPicPr/>
          <p:nvPr/>
        </p:nvPicPr>
        <p:blipFill>
          <a:blip r:embed="rId5"/>
          <a:stretch/>
        </p:blipFill>
        <p:spPr>
          <a:xfrm>
            <a:off x="5338800" y="2970360"/>
            <a:ext cx="1320840" cy="73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5" descr="258"/>
          <p:cNvPicPr/>
          <p:nvPr/>
        </p:nvPicPr>
        <p:blipFill>
          <a:blip r:embed="rId6"/>
          <a:stretch/>
        </p:blipFill>
        <p:spPr>
          <a:xfrm>
            <a:off x="7491240" y="2970360"/>
            <a:ext cx="11844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-4513320" y="-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19280" y="812880"/>
          <a:ext cx="5689440" cy="45720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utomeria ou Isomeria Dinâ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58"/>
          <p:cNvSpPr/>
          <p:nvPr/>
        </p:nvSpPr>
        <p:spPr>
          <a:xfrm>
            <a:off x="355680" y="1340280"/>
            <a:ext cx="86090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te é um caso especial da isomeria de função, onde os isômeros coexistem em um equilíbrio químico. Os tautômeros mais comuns são os enóis e as cetonas ou os enóis e os aldeídos. A diferença é a posição da hidroxila insaturada: em um carbon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la gera um aldeído e em um carbono localizado no meio de uma cadeia ela gera uma cetona. 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9640" y="3645000"/>
          <a:ext cx="8285400" cy="1844640"/>
        </p:xfrm>
        <a:graphic>
          <a:graphicData uri="http://schemas.openxmlformats.org/drawingml/2006/table">
            <a:tbl>
              <a:tblPr/>
              <a:tblGrid>
                <a:gridCol w="2341080"/>
                <a:gridCol w="1841400"/>
                <a:gridCol w="216000"/>
                <a:gridCol w="1851120"/>
                <a:gridCol w="20358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deí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t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en-2-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67" name="Picture 60" descr="127"/>
          <p:cNvPicPr/>
          <p:nvPr/>
        </p:nvPicPr>
        <p:blipFill>
          <a:blip r:embed="rId3"/>
          <a:stretch/>
        </p:blipFill>
        <p:spPr>
          <a:xfrm>
            <a:off x="1258920" y="3645000"/>
            <a:ext cx="879480" cy="81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2" descr="260"/>
          <p:cNvPicPr/>
          <p:nvPr/>
        </p:nvPicPr>
        <p:blipFill>
          <a:blip r:embed="rId4"/>
          <a:stretch/>
        </p:blipFill>
        <p:spPr>
          <a:xfrm>
            <a:off x="3354480" y="3735360"/>
            <a:ext cx="930240" cy="69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5" descr="259"/>
          <p:cNvPicPr/>
          <p:nvPr/>
        </p:nvPicPr>
        <p:blipFill>
          <a:blip r:embed="rId5"/>
          <a:stretch/>
        </p:blipFill>
        <p:spPr>
          <a:xfrm>
            <a:off x="5305320" y="3767040"/>
            <a:ext cx="1047960" cy="6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7" descr="261"/>
          <p:cNvPicPr/>
          <p:nvPr/>
        </p:nvPicPr>
        <p:blipFill>
          <a:blip r:embed="rId6"/>
          <a:stretch/>
        </p:blipFill>
        <p:spPr>
          <a:xfrm>
            <a:off x="7196040" y="3683160"/>
            <a:ext cx="112104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47:21Z</dcterms:created>
  <dc:creator>Leonardo Pimentel</dc:creator>
  <dc:description/>
  <dc:language>en-US</dc:language>
  <cp:lastModifiedBy>Moisés</cp:lastModifiedBy>
  <dcterms:modified xsi:type="dcterms:W3CDTF">2013-09-24T10:22:25Z</dcterms:modified>
  <cp:revision>24</cp:revision>
  <dc:subject>Ligação iônica,molecular e metálica</dc:subject>
  <dc:title>Slide 1</dc:title>
</cp:coreProperties>
</file>